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DD5-8E25-4E1E-8C11-DF63AC27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8FB-6F76-47F8-A042-093D3D1D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29B3-08C9-40B4-B229-87AB614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5611E-F83E-49E0-A0A6-78C8C479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3913D-2152-499F-8183-FCAC711F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E437E-4A11-4E10-B427-CDF154E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5FD0-7428-481A-9819-AE6B393B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3722-82C9-474C-9E0D-71D8F78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91C3E-16A9-4081-9290-430E05B4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ECEF5-BD20-4B9D-A895-2304A9A3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5880F-0B9F-496F-B4CB-AFAE450E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D0D38-6748-4A4D-960D-CC88980D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C85-4BB0-465A-BA81-8CA2F1C2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89980-8083-411F-B228-B53BACC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0F472-4382-4212-91B2-FBF520F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BF29A-C4F4-4B3A-8014-99314D5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8EC0A-64CB-4AFF-AB73-B4F0155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E4814-7872-495E-985D-D8D90FB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63F80-BD52-4241-9029-F7C228F3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880F4-ABB5-4AC9-B6B3-31F9B4EE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E351-2CED-4860-B1DF-3267C1A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6319-05B4-4CE8-9269-D95BD2EF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6D0F-57FB-4F81-B2B6-1CEB0940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BDC-8B39-4875-B8AE-8B7AE3FA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025BE-7018-4F8D-8DE3-44258EB1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A8332-28BA-499F-A485-5FA009A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4780-FA6A-455B-A219-F5C53E9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47416-289D-4949-B425-1DD9AFE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5B857-534D-4FF0-9CC0-C26D297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2806-C311-4DA8-AB93-2171D932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D43C-5BBC-43C8-A84A-1FC1F0F8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48EBB-A137-4FF6-8E36-B434617F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BA376-1600-4B48-8EF4-7B8DE06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50212-B696-4294-97A3-FC04952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8F3-9574-4BE4-9E01-11105322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D931B-FAE8-42FD-A445-01FD753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B8D38-FF98-48D8-9983-3ABEF216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FAE95-E15F-46E9-B3A3-EDD13570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9C091-DC1D-4B31-AB4F-3761C9F3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3F8B-CCB9-4F76-8C1E-402F9EF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11FBC-9D08-4B7F-84BF-B11724F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F043-C739-4B6D-8BA7-EC59A4E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FC51F-4BF3-46BA-A4E3-13CCF3E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66017-F043-44AE-8EF9-2FF42369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FB12F-B336-4A46-A5ED-4A53ED6B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13F-6008-47EB-BEBB-37D034C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63EC3-EE8F-439A-B816-DECD08D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06082-165D-456B-9475-5BB3166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1DE4A-B54A-477E-811C-3A16D19D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D3676-CA15-40E9-A7BD-5FEA3C55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C6F2-3C47-4136-B094-1FF1411F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F415D-8D41-4C4F-A7D5-A166B50A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8AE7A-98D8-4238-AADD-8DECBBF2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131BA-21CE-48C6-930B-59B2395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3DB7D-7F50-4F7E-994F-C43DE09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F3C6A-288C-4586-A790-C93D436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DFA-D8D7-4957-8733-B3637E2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B3D21-EE70-42B8-B8E7-E2367121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AF245-BF1D-49DB-824F-2016A55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BA15A-266D-4A90-B1D2-E17AAAB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E7A92-9B8E-4E51-AB8A-346E0BE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52FCA-1689-410B-952C-A3EB781C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6F995-5895-4F6E-8F1B-92D67537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61540-4C92-4AF6-BE30-A6F8A51B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557D8-A9B8-4A6C-A143-A5220CDF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2CF4C-0D18-438E-8F3B-99E9420E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1A754-0C6C-496F-8F56-ACA397E9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562A-719F-428F-A79E-0539285B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D9B37-237E-4A69-9812-C65D698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B41FB-8693-4A07-A5D7-BC8F9720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1CB3E-6E79-4CC0-8706-979AC7C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19330-6708-4D6F-85F4-94F5BB7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75C0D-F9DF-46CF-8728-9AC2239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D9740-49C5-4284-A849-7250557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4E545-C9C6-4894-BDB7-3CDFDDD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541DC-9585-431B-B6F3-6052B7B4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7E5F2-BAA3-4DC4-930E-7D8B1BE7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83F2A-BEE3-4896-B692-2B475E20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8C20-D11D-4924-B136-9C943EAA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90457-1C44-4A78-81BD-8329ED34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EB845-7139-4307-8D15-7FE5167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B2AF6-741C-4998-B36C-995D2D6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6B370-1943-427B-ADD5-FE8CBDBF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4026C-5F0E-4D93-9B1A-A2B9364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37B7D-BD4D-4579-8273-27A95E0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3EB39-2576-43DB-83EA-8E09FA1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1EF22-7D12-41BA-9B41-0A16485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5B2F3-A1F0-4DBE-A0F8-6B3BB62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97ACB-BEA8-4C73-BB6C-8367253E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440-4164-4D75-AFF6-CDC198C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73603-8311-48FE-9DB7-49D64C14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DBC17-9719-44F7-B91F-A442590F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4ACA2-FB5D-47E1-919C-7373A27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3669C-CACA-4449-8256-D9352D85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8329F-20EE-4A8C-922F-253E0500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A00DE-571B-4198-B2B6-BF3A80DA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7BDD1-C54A-4CB6-8565-8E8D5B7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79053-E391-4F9D-A141-1DB4B05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FD771-8A24-4E3C-BC3E-1B40D1A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AF6EB-A666-4754-B16F-E8E717E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F44-9F66-4D4D-B797-EAA1E52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5E3D5-959C-4A60-89AD-C3D59F8F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C259D-B210-4E5F-8442-8E2656A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292EE-60F5-43A6-98C2-AF30F71F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0E4BC-10A9-4FEE-92D0-92BE26FE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71483-B87B-4883-BE15-F41DFF5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989F1-0EFA-4A7D-8DA6-DEBA9F61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9F53D-FB83-42FA-A66C-214E498A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5235C-ACF8-4C94-BBEC-0010F6F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56E49-2DA4-454E-8B3B-D5764841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9BBF8-E0D9-4E6D-91E2-82DB6FE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9E4-0C7A-4C70-8C84-75CA006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C655-9EBD-4A8D-869C-FC91D181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441A6-D8D0-4BB7-914F-8C0C3EC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1F4EA-3EC9-4406-8220-BBB3C97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085C0-DEB3-44DD-828C-DB713992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1B00B-D177-4999-B871-9EE1DB37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722DC-6626-42E1-BA9F-AA17CD7C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4AEE2-3474-40E5-ACDF-9820939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935C6-4C85-499E-A49D-C38A3147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D64DA-B019-4267-B654-B14CAABA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660F0-35B0-40BD-9384-BCAF55E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D1054-4381-44DC-9354-E0E522F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37FA-947E-40FD-A4FB-5BE15F9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7AF50-3B6B-4FC8-B358-C2F358E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842E2-B77C-4867-A7E8-E2A0703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CD7BC-0BEC-4A38-9E88-5DBE2FD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37B7F-1973-48B2-82EA-ECD455F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E8F04-D2F7-46CE-A553-66AFF53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A4C9B-D8BE-4C5B-B668-91EA77BF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9EC01-3DA4-4654-ACFD-4F22865B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93398C-9203-410A-BABF-DE4943FB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8EDCF7-9D7E-465E-8346-C943D193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24DE8-F86C-45B6-9552-75E9B79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1524-77FD-4F96-ACC3-7FE29872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B4807-795E-4253-835D-AF24DC7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E018EB-F0B7-4156-B599-E379C7BA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F4A53-5DE1-4E25-8B46-06B89471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22F87-7166-4078-8036-072CB07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C54B7-850B-4CF4-9870-1F0B91A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03DC5-04BD-4298-8761-563326F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CBCA6-8CFC-4073-8005-46C8BC28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98F45-DA6B-4CC9-9A48-A1EA7F7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381F3-E5AC-4D72-9AE7-8C3326A8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00283-BC5E-49B4-8681-02A7402E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30A8-9A23-4282-A785-403D9BA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9EF51-C43E-4652-85F8-64902C3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ADB34-A22C-444A-BD8F-9A370CC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EB3E3-73E7-4C90-A0FC-353495D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75CC2-FC91-4581-A00F-91CB7D4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55573-07DE-4D8E-BC89-F0594FA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4DFF0-CB47-496A-9478-C392E26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4135D-E594-4008-8AB1-8B6C7E7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91A22-6EC3-4E85-B055-53088FF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7506F-C530-4F36-8218-A71D13A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C43BC-1957-4C1C-88FF-54DA23E7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DD77-F552-45F1-8C6B-51A5D11C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F18DF-58A0-4C67-A7DF-DDCE2537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079B-15E8-41A9-8071-AC79024E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AD13-43D8-432C-A783-FE78F1AE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847E-6B13-429E-A04F-843A90B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99CC-4FE7-43CA-BB22-30ECD1E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11B8-9266-49A7-A2F7-E386E7E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07D-4C05-41DE-B8A9-C9ABE1A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1483-7A21-4039-83BE-67972C4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2A35-4969-44F6-96C8-890EBC2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9894-17E1-4785-8A85-A4A8F7F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47A5-4BB7-4774-81D8-58D8DA7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9A55-BFB3-407D-8F88-FA1376BF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C7A5-0D65-47AF-81CA-C0ACBC29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DEB1-EAB4-4712-9F41-BA90E323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A898B-74BF-40EC-AEF4-CCF2C8DC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6BB3A-6002-4EF7-9382-C5830AE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21693-599A-456C-BF85-DCBF890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BC5-92D3-4508-9AA2-597707E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0A6F0-EE5A-4ABE-8924-574B730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D5019-113E-4BD6-BA60-DBD230F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CF36F-78A1-49E8-B884-DDFBBDA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B7057-2BBC-460C-8E37-6A2D8D5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06DEF-0287-481A-9D54-1112AF7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D62B5-4D31-4971-9B58-7F69F18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319FF-BE2D-4B60-A456-E9183C0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002F1-32CC-4D0E-B32C-6A72D7C2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B063E-E3BF-4042-9F7A-3C453268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DBAC-2453-4BE7-9C2B-DBB5E2A6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4CF-073E-42B1-B9B8-6A7BD1F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8225-36AE-4556-9C23-ED5F328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AAE7-473D-4902-90E4-AC74749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CA2F-A256-4ACA-A407-1DDAF94E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797D5-3235-4A99-B31D-ADAFD082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78B0-73FF-47CC-BC33-C068A66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4153-79CA-41A7-91F9-C8F35D1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0966-8C75-4BB3-8BA2-3E4F0789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542C-0BF4-4CE6-A363-CA4BBC4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BE19-54E7-4ECF-8AA2-D733262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D86C-35EA-46BC-8230-43A2F96A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0F8-4361-4099-A4D0-43ED5F2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9540-85D2-473A-819C-B0295A43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3C3C-2E4D-4E76-980D-D8B42365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C1CF6-1EA0-4B11-8198-54F0C365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447F-417D-446B-AE95-1D9EA3BA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D833-3873-43E4-A4F4-26CC8368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56DB-36F3-4BDB-9A23-9AE61C9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4287-E9B1-4C6B-B781-7C2C7C67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7549-A3C1-47AE-930A-CE54D4B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BB1CD-63FC-4D5A-BC48-BC928B2D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708E-EA2D-438A-91DD-16AC819E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034-4603-453C-9529-C48DBBC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EC27-7486-4618-9A51-65D3BA24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4F17-3A26-4795-8D5B-4125F3FF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764F-21D5-49A6-B6BE-5939A5AB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341C-5361-450F-98F0-82086174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A4D71-C249-4D54-A99D-D8BF9D09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6CD9-19D5-4D83-BCB0-EB952927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1B199-0210-4FDB-AE3E-E400B6B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EC35-38E7-4753-99FD-C438258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A5FA-F8A8-49B9-ABBB-B533D1E3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4C9C-D5D4-45AA-88DA-8A98A1E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5D9-3F47-4D6E-B445-A153D0D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AAD0-A34E-41A6-A83D-C768883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B901-00D0-40AE-8946-82AAFB6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0F06-3B06-4DA7-A345-ECAEFC5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2CF1-C430-42AD-A9EE-4847411F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C330-47E4-4A54-99A3-A783B07B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C66AE-AA9E-47A7-B4FE-A20559AA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0B02-DED4-4285-830F-6989AAC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C80D-C3D1-4783-9120-A9761F0F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BAE9-4242-4D1A-9B2D-22DBF328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2FE9-6FDD-4DC4-BBFD-E6528D47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0DF-F334-4710-9218-0197C43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8D61-4EB9-45BE-8C12-723D46F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98F5-E5AE-45C0-B6B6-1CA642B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FD2E-CD71-4676-BD81-A4C628A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036FE-3CE9-4F99-85B8-4C4BF8A7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EFD9-D166-44AF-B6FB-C590DAD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CC72-9E6F-4835-A384-6600436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CA45-088E-4B4C-B667-9004DED9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37F2-B6EE-4D45-A100-7DFDE08A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855A-E4BF-40F8-9051-23924F2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9350-453E-439A-96FD-C507A66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499-16D4-44EE-BC9C-8E214B13F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FF9-AE04-4C40-81A3-9043691CDA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7C43-ED3A-4E57-81D3-281D7A10E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3683-718A-4803-A813-28A586A60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F77-A1DC-44AE-9FCA-74F6E4368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548-F3C8-4129-AA45-36F057E0B2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FFA-FD8D-4E48-AD5D-20B0B00D4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325-0E5F-4D17-BE69-95EFABF7F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85BF-F5F1-441E-93D7-12FF41BB3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C6C-959F-4686-8961-732573DD7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254-8DCA-4AB4-ABF5-6F27CD420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BB2-32B1-4FFC-B500-E322C6717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F54-883F-4057-B63C-58FFBCE0A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432-9201-4206-B015-F2D2FC6FA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74C3-AD01-46A0-9824-4B6DBA055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381-074E-4CA7-9AD4-A1B7560661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9757-CF94-4AA4-85B0-5C9501744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F00-10B7-45C5-B7D4-9351AE533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E77-9274-4DBB-B0CB-A253D3B7F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058-E047-44E2-AA41-48710723F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C797-C5F8-4114-888C-7DF07C3F1E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C17D-49BA-4CA3-8130-ECA232906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40A-A5C0-4552-9399-57E2BCDDA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8D60-40FC-4B87-B6FE-8DD49689B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4D1-615C-4451-9792-4D5405F23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124-B2D2-4A07-A9F5-821F9AE57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1323-49F7-4F56-8F8A-2C8F954C5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A79B-30C4-41FB-A2A2-297D0A27E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8F6-C79E-4B72-A9E8-1354C90B7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1580-A44A-4D15-9991-6C9CB5A7D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64A5-D12E-4700-9F5B-BE51D0BED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31D-0D33-434E-A54D-CCBCDC722B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AE8A-910D-41FC-B4B1-51BD149AE2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ACC-8B3A-4F96-8B39-1EC480D75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BAB-9D69-4FD6-8914-540BC8C4A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5EED-E8FA-4F66-9423-E59EE856F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38ED-6878-4BDA-BE30-915D42234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279-CE90-4716-9E74-8C83C2AD6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3127"/>
          <p:cNvPicPr/>
          <p:nvPr/>
        </p:nvPicPr>
        <p:blipFill>
          <a:blip r:embed="rId1"/>
          <a:stretch/>
        </p:blipFill>
        <p:spPr>
          <a:xfrm>
            <a:off x="189000" y="1670040"/>
            <a:ext cx="8570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9633" descr=""/>
          <p:cNvPicPr/>
          <p:nvPr/>
        </p:nvPicPr>
        <p:blipFill>
          <a:blip r:embed="rId1"/>
          <a:stretch/>
        </p:blipFill>
        <p:spPr>
          <a:xfrm>
            <a:off x="385920" y="895320"/>
            <a:ext cx="8372160" cy="5067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539640" y="164772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539640" y="199872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611280" y="4527720"/>
            <a:ext cx="5256000" cy="279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39640" y="4878360"/>
            <a:ext cx="5256360" cy="279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39640" y="5248440"/>
            <a:ext cx="5256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8609" descr=""/>
          <p:cNvPicPr/>
          <p:nvPr/>
        </p:nvPicPr>
        <p:blipFill>
          <a:blip r:embed="rId1"/>
          <a:stretch/>
        </p:blipFill>
        <p:spPr>
          <a:xfrm>
            <a:off x="414360" y="1552680"/>
            <a:ext cx="8315280" cy="3752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611280" y="4869000"/>
            <a:ext cx="3384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47680" y="981000"/>
            <a:ext cx="8648640" cy="4896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647640" cy="279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7308720" y="1484280"/>
            <a:ext cx="648000" cy="279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3492360" y="1873080"/>
            <a:ext cx="2374920" cy="279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7164360" y="1863720"/>
            <a:ext cx="1728720" cy="27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55640" y="2276640"/>
            <a:ext cx="1728720" cy="279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572000" y="227664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2340000" y="30495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4913280" y="30495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7451640" y="30495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356000" y="3438360"/>
            <a:ext cx="432000" cy="279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6948360" y="3438360"/>
            <a:ext cx="432000" cy="2797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4356000" y="394344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7451640" y="393372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1265400" y="439416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5148360" y="479736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6156360" y="479736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8"/>
          <a:stretch/>
        </p:blipFill>
        <p:spPr>
          <a:xfrm>
            <a:off x="7236000" y="480708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9"/>
          <a:stretch/>
        </p:blipFill>
        <p:spPr>
          <a:xfrm>
            <a:off x="1835280" y="558972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0"/>
          <a:stretch/>
        </p:blipFill>
        <p:spPr>
          <a:xfrm>
            <a:off x="4221000" y="5599080"/>
            <a:ext cx="432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59410" descr=""/>
          <p:cNvPicPr/>
          <p:nvPr/>
        </p:nvPicPr>
        <p:blipFill>
          <a:blip r:embed="rId1"/>
          <a:stretch/>
        </p:blipFill>
        <p:spPr>
          <a:xfrm>
            <a:off x="223920" y="766800"/>
            <a:ext cx="8696160" cy="53244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2"/>
          <a:stretch/>
        </p:blipFill>
        <p:spPr>
          <a:xfrm>
            <a:off x="1422360" y="117324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2268360" y="1187280"/>
            <a:ext cx="289080" cy="2797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3132000" y="1187280"/>
            <a:ext cx="289080" cy="2797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4394160" y="1182600"/>
            <a:ext cx="1546200" cy="2793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2427120" y="238284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5364000" y="235908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8244000" y="3151080"/>
            <a:ext cx="288720" cy="2793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8244000" y="3573360"/>
            <a:ext cx="288720" cy="2793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253360" y="396252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250120" y="4356000"/>
            <a:ext cx="289080" cy="279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3"/>
          <a:stretch/>
        </p:blipFill>
        <p:spPr>
          <a:xfrm>
            <a:off x="8244000" y="4753080"/>
            <a:ext cx="288720" cy="2793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4"/>
          <a:stretch/>
        </p:blipFill>
        <p:spPr>
          <a:xfrm>
            <a:off x="8269200" y="5776920"/>
            <a:ext cx="2890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图片 58373" descr=""/>
          <p:cNvPicPr/>
          <p:nvPr/>
        </p:nvPicPr>
        <p:blipFill>
          <a:blip r:embed="rId1"/>
          <a:stretch/>
        </p:blipFill>
        <p:spPr>
          <a:xfrm>
            <a:off x="243000" y="826920"/>
            <a:ext cx="8658000" cy="59151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2"/>
          <a:stretch/>
        </p:blipFill>
        <p:spPr>
          <a:xfrm>
            <a:off x="5311800" y="12160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3"/>
          <a:stretch/>
        </p:blipFill>
        <p:spPr>
          <a:xfrm>
            <a:off x="5219640" y="1944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4"/>
          <a:stretch/>
        </p:blipFill>
        <p:spPr>
          <a:xfrm>
            <a:off x="5335560" y="26938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5"/>
          <a:stretch/>
        </p:blipFill>
        <p:spPr>
          <a:xfrm>
            <a:off x="3905280" y="34099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6"/>
          <a:stretch/>
        </p:blipFill>
        <p:spPr>
          <a:xfrm>
            <a:off x="3492360" y="511344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图片 57352" descr=""/>
          <p:cNvPicPr/>
          <p:nvPr/>
        </p:nvPicPr>
        <p:blipFill>
          <a:blip r:embed="rId1"/>
          <a:stretch/>
        </p:blipFill>
        <p:spPr>
          <a:xfrm>
            <a:off x="1052640" y="1585800"/>
            <a:ext cx="7038720" cy="36864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2"/>
          <a:stretch/>
        </p:blipFill>
        <p:spPr>
          <a:xfrm>
            <a:off x="6084720" y="2195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3"/>
          <a:stretch/>
        </p:blipFill>
        <p:spPr>
          <a:xfrm>
            <a:off x="3213000" y="336708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4"/>
          <a:stretch/>
        </p:blipFill>
        <p:spPr>
          <a:xfrm>
            <a:off x="4716360" y="336708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5"/>
          <a:stretch/>
        </p:blipFill>
        <p:spPr>
          <a:xfrm>
            <a:off x="6588000" y="4456080"/>
            <a:ext cx="360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组合 56326"/>
          <p:cNvGrpSpPr/>
          <p:nvPr/>
        </p:nvGrpSpPr>
        <p:grpSpPr>
          <a:xfrm>
            <a:off x="179280" y="981000"/>
            <a:ext cx="8013960" cy="4299120"/>
            <a:chOff x="179280" y="981000"/>
            <a:chExt cx="8013960" cy="4299120"/>
          </a:xfrm>
        </p:grpSpPr>
        <p:pic>
          <p:nvPicPr>
            <p:cNvPr id="1005" name="图片 56324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7820280" cy="31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图片 56325" descr=""/>
            <p:cNvPicPr/>
            <p:nvPr/>
          </p:nvPicPr>
          <p:blipFill>
            <a:blip r:embed="rId2"/>
            <a:stretch/>
          </p:blipFill>
          <p:spPr>
            <a:xfrm>
              <a:off x="468360" y="4365720"/>
              <a:ext cx="77248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Picture 1" descr=""/>
          <p:cNvPicPr/>
          <p:nvPr/>
        </p:nvPicPr>
        <p:blipFill>
          <a:blip r:embed="rId3"/>
          <a:stretch/>
        </p:blipFill>
        <p:spPr>
          <a:xfrm>
            <a:off x="1139760" y="18748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4"/>
          <a:stretch/>
        </p:blipFill>
        <p:spPr>
          <a:xfrm>
            <a:off x="1519200" y="1873080"/>
            <a:ext cx="1397160" cy="2890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5"/>
          <a:stretch/>
        </p:blipFill>
        <p:spPr>
          <a:xfrm>
            <a:off x="3708360" y="186372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6"/>
          <a:stretch/>
        </p:blipFill>
        <p:spPr>
          <a:xfrm>
            <a:off x="6084720" y="188280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7"/>
          <a:stretch/>
        </p:blipFill>
        <p:spPr>
          <a:xfrm>
            <a:off x="6578640" y="1887480"/>
            <a:ext cx="1449360" cy="2890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8"/>
          <a:stretch/>
        </p:blipFill>
        <p:spPr>
          <a:xfrm>
            <a:off x="1042920" y="281952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9"/>
          <a:stretch/>
        </p:blipFill>
        <p:spPr>
          <a:xfrm>
            <a:off x="3708360" y="280980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10"/>
          <a:stretch/>
        </p:blipFill>
        <p:spPr>
          <a:xfrm>
            <a:off x="4183200" y="2800440"/>
            <a:ext cx="1396800" cy="2887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1"/>
          <a:stretch/>
        </p:blipFill>
        <p:spPr>
          <a:xfrm>
            <a:off x="6208560" y="280980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2"/>
          <a:stretch/>
        </p:blipFill>
        <p:spPr>
          <a:xfrm>
            <a:off x="1139760" y="373536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3"/>
          <a:stretch/>
        </p:blipFill>
        <p:spPr>
          <a:xfrm>
            <a:off x="3813120" y="3745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4"/>
          <a:stretch/>
        </p:blipFill>
        <p:spPr>
          <a:xfrm>
            <a:off x="6208560" y="3745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5"/>
          <a:stretch/>
        </p:blipFill>
        <p:spPr>
          <a:xfrm>
            <a:off x="1116000" y="4888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6"/>
          <a:stretch/>
        </p:blipFill>
        <p:spPr>
          <a:xfrm>
            <a:off x="3564000" y="4888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7"/>
          <a:stretch/>
        </p:blipFill>
        <p:spPr>
          <a:xfrm>
            <a:off x="3986280" y="4888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8"/>
          <a:stretch/>
        </p:blipFill>
        <p:spPr>
          <a:xfrm>
            <a:off x="4356000" y="4888080"/>
            <a:ext cx="1368360" cy="2887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9"/>
          <a:stretch/>
        </p:blipFill>
        <p:spPr>
          <a:xfrm>
            <a:off x="5921280" y="4878360"/>
            <a:ext cx="298440" cy="2890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0"/>
          <a:stretch/>
        </p:blipFill>
        <p:spPr>
          <a:xfrm>
            <a:off x="6507000" y="4888080"/>
            <a:ext cx="298440" cy="2887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1"/>
          <a:stretch/>
        </p:blipFill>
        <p:spPr>
          <a:xfrm>
            <a:off x="6867360" y="4888080"/>
            <a:ext cx="136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组合 55304"/>
          <p:cNvGrpSpPr/>
          <p:nvPr/>
        </p:nvGrpSpPr>
        <p:grpSpPr>
          <a:xfrm>
            <a:off x="233280" y="1185840"/>
            <a:ext cx="8677440" cy="4627440"/>
            <a:chOff x="233280" y="1185840"/>
            <a:chExt cx="8677440" cy="4627440"/>
          </a:xfrm>
        </p:grpSpPr>
        <p:pic>
          <p:nvPicPr>
            <p:cNvPr id="1027" name="图片 55300" descr=""/>
            <p:cNvPicPr/>
            <p:nvPr/>
          </p:nvPicPr>
          <p:blipFill>
            <a:blip r:embed="rId1"/>
            <a:stretch/>
          </p:blipFill>
          <p:spPr>
            <a:xfrm>
              <a:off x="233280" y="1185840"/>
              <a:ext cx="8677440" cy="44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图片 55303" descr=""/>
            <p:cNvPicPr/>
            <p:nvPr/>
          </p:nvPicPr>
          <p:blipFill>
            <a:blip r:embed="rId2"/>
            <a:stretch/>
          </p:blipFill>
          <p:spPr>
            <a:xfrm>
              <a:off x="1433520" y="4432320"/>
              <a:ext cx="6991200" cy="13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500720" y="3203640"/>
            <a:ext cx="647640" cy="279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3770280"/>
            <a:ext cx="647640" cy="279360"/>
          </a:xfrm>
          <a:prstGeom prst="rect">
            <a:avLst/>
          </a:prstGeom>
          <a:ln w="0">
            <a:noFill/>
          </a:ln>
        </p:spPr>
      </p:pic>
      <p:sp>
        <p:nvSpPr>
          <p:cNvPr id="1031" name="椭圆 55305"/>
          <p:cNvSpPr/>
          <p:nvPr/>
        </p:nvSpPr>
        <p:spPr>
          <a:xfrm>
            <a:off x="1692360" y="4653000"/>
            <a:ext cx="1150920" cy="1008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55306"/>
          <p:cNvSpPr/>
          <p:nvPr/>
        </p:nvSpPr>
        <p:spPr>
          <a:xfrm>
            <a:off x="5435640" y="4633920"/>
            <a:ext cx="1150920" cy="1008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54281"/>
          <p:cNvGrpSpPr/>
          <p:nvPr/>
        </p:nvGrpSpPr>
        <p:grpSpPr>
          <a:xfrm>
            <a:off x="285840" y="961920"/>
            <a:ext cx="8572320" cy="4934160"/>
            <a:chOff x="285840" y="961920"/>
            <a:chExt cx="8572320" cy="4934160"/>
          </a:xfrm>
        </p:grpSpPr>
        <p:pic>
          <p:nvPicPr>
            <p:cNvPr id="1034" name="图片 54276" descr=""/>
            <p:cNvPicPr/>
            <p:nvPr/>
          </p:nvPicPr>
          <p:blipFill>
            <a:blip r:embed="rId1"/>
            <a:stretch/>
          </p:blipFill>
          <p:spPr>
            <a:xfrm>
              <a:off x="285840" y="961920"/>
              <a:ext cx="8572320" cy="49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图片 54280" descr=""/>
            <p:cNvPicPr/>
            <p:nvPr/>
          </p:nvPicPr>
          <p:blipFill>
            <a:blip r:embed="rId2"/>
            <a:stretch/>
          </p:blipFill>
          <p:spPr>
            <a:xfrm>
              <a:off x="6742080" y="3659040"/>
              <a:ext cx="2085840" cy="200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6" name="图片 54277" descr=""/>
          <p:cNvPicPr/>
          <p:nvPr/>
        </p:nvPicPr>
        <p:blipFill>
          <a:blip r:embed="rId3"/>
          <a:stretch/>
        </p:blipFill>
        <p:spPr>
          <a:xfrm>
            <a:off x="3611520" y="172872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4278" descr=""/>
          <p:cNvPicPr/>
          <p:nvPr/>
        </p:nvPicPr>
        <p:blipFill>
          <a:blip r:embed="rId4"/>
          <a:stretch/>
        </p:blipFill>
        <p:spPr>
          <a:xfrm>
            <a:off x="5319720" y="17478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4279" descr=""/>
          <p:cNvPicPr/>
          <p:nvPr/>
        </p:nvPicPr>
        <p:blipFill>
          <a:blip r:embed="rId5"/>
          <a:stretch/>
        </p:blipFill>
        <p:spPr>
          <a:xfrm>
            <a:off x="7031160" y="1747800"/>
            <a:ext cx="1323720" cy="1028880"/>
          </a:xfrm>
          <a:prstGeom prst="rect">
            <a:avLst/>
          </a:prstGeom>
          <a:ln w="0">
            <a:noFill/>
          </a:ln>
        </p:spPr>
      </p:pic>
      <p:sp>
        <p:nvSpPr>
          <p:cNvPr id="1039" name="椭圆 54282"/>
          <p:cNvSpPr/>
          <p:nvPr/>
        </p:nvSpPr>
        <p:spPr>
          <a:xfrm>
            <a:off x="7020000" y="3967200"/>
            <a:ext cx="1800000" cy="1440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2231" descr=""/>
          <p:cNvPicPr/>
          <p:nvPr/>
        </p:nvPicPr>
        <p:blipFill>
          <a:blip r:embed="rId1"/>
          <a:stretch/>
        </p:blipFill>
        <p:spPr>
          <a:xfrm>
            <a:off x="223920" y="1484280"/>
            <a:ext cx="8696160" cy="18385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2232" descr=""/>
          <p:cNvPicPr/>
          <p:nvPr/>
        </p:nvPicPr>
        <p:blipFill>
          <a:blip r:embed="rId2"/>
          <a:stretch/>
        </p:blipFill>
        <p:spPr>
          <a:xfrm>
            <a:off x="511200" y="3513240"/>
            <a:ext cx="8381880" cy="2076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684360" y="2233440"/>
            <a:ext cx="5472000" cy="279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611280" y="2608200"/>
            <a:ext cx="5472000" cy="279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755640" y="4292640"/>
            <a:ext cx="5472000" cy="279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684360" y="4653000"/>
            <a:ext cx="5472000" cy="279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684360" y="5022720"/>
            <a:ext cx="5472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37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